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A36-28F7-43C1-93C8-B2D4A416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67A-53F1-42F3-B54A-28672A75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F57-B3B8-410D-9ECB-06772364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851-8A08-4876-95EF-8DEF56B9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101-33E1-49E2-B259-770416F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615-E6ED-4B16-8557-5288416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E7C-261B-4390-A470-153B9443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FA9-4264-49D7-8A59-89FD7395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3B5-9A8B-4679-9DF0-E85B9D9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23C-E5D3-41BF-82B7-5B18E2B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BA2-FF86-4A3A-932C-D78ED0B2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D05-CF91-4C1D-ADD9-C76B6C3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CB378-1C11-431B-B2C0-D44E9848A89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457200" y="5029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no Pro"/>
              </a:rPr>
              <a:t>25 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920" y="1699920"/>
            <a:ext cx="7129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MANIFESTA-SE NOS CABEL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 ESSÊNCIA DE RIM CONTROLA A SUA QUALIDADE E COR DOS CABELOS. </a:t>
            </a:r>
            <a:br>
              <a:rPr sz="2800"/>
            </a:b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SSIM, SE A ESSÊNCIA   ESTIVER DEBILITADA, OS CABELOS FICARÃO FRACOS (PODENDO GERAR CALVÍCIE) E HAVERÁ O EMBRANQUECIMENTO PRECOCE MESMO  NUMA PESSOA JOV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ONTROLAR OS DOIS ORIFÍCIOS INFERIOR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NTROLA O ORIFÍCIO FRONTAL QUE INCLUI A URETRA E O DUTO ESPERMÁTICO NOS HOMENS E O ORIFÍCIO DORSAL QUE É O Â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ABRIGAR A FORÇA DE VONT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RIM É A RESIDÊNCIA DA FORÇA DE VONTADE E SE FOR FORTE, A FORÇA DE VONTADE TAMBÉM SE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MEDO E A CULPA SÃO EMOÇÕES LIGADAS A ESTE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129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ADA RIM POSSUI FUNÇÕES DIFERENTES NO ORG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 QI ORIGINAL (YUAN QI) É A JUNÇÃO DO YIN ORIGINAL (YUAN YIN) DO RIM ESQUERDO E O YANG ORIGINAL (YUAN YANG) DO RIM DIRE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FÍG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920" y="191628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RMAZENAR O SANGUE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SSEGURA O FLUXO SUAVE DO Q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ONTROLA OS TENDÕES, MANIFESTA-SE NAS UNHAS E ABRE-SE NOS OL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7586640" y="189000"/>
            <a:ext cx="1557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FÍG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42920" y="191628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ARMAZENAR O SANG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EGULA O VOLUME DE SANGUE   DE ACORDO COM A ATIVIDADE FÍSIC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QUANDO O ORGANISMO DESCANSA, O SANGUE  , VOLTA PARA O FÍGADO  E QUANDO ESTÁ ATIVO, O SANGUE   FLUI PARA NUTRIR OS TECIDOS E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REGULA O VOLUME DE SANGUE NA MENSTRUAÇÃO, FACILITANDO O ABASTECIMENTO ADEQUADO DO VASO DIRETOR (REN MAI) E VASO PENETRADOR (CHONG MAI), QUE SÃO RESPONSÁVEIS PELA MENSTRU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7586640" y="189000"/>
            <a:ext cx="1557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FÍG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42920" y="191628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ASSEGURA O FLUXO SUAVE DO Q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ISTRIBUI O QI EM TODAS AS DIREÇÕES, NUTRINDO E HARMONIZANDO TODO O ORGANISMO.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UXILIA O ESTÔMAGO   A AMADURECER, DECOMPOR E DESCENDER OS ALI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UXILIA O BAÇO  A TRANSFORMAR AS ESSÊNCIAS ALIMENTARES, ASCENDER O REFINADO E DESCENDER O TURVO; ASSEGURA O FLUXO DO QI NOS INTESTINOS (DACHANG E XIAOCHANG) E NO ÚTERO, ATRAVÉS DA MENSTR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FLUENCIA O ESTADO EMOCIONAL EVITANDO A FÚRIA REPRIMIDA QUE GERA DEPRESSÃO E FRUST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7586640" y="189000"/>
            <a:ext cx="1557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FÍG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42920" y="191628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CONTROLA OS TENDÕES, MANIFESTA-SE NAS UNHAS E ABRE-SE NOS OL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CONTRAÇÃO DOS MÚSCULOS E TENDÕES DEPENDE DO UMEDECIMENTO DO SANGUE DO FI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S UNHAS SÃO CONSIDERADAS PELA MTC, UM SUBPRODUTO DOS TENDÕES, TAMBÉM DEPENDEM DA NUTRIÇÃO DIRETA DO SANGUE  DO FÍGAD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SANGUE   DO FÍGADO UMEDECE OS OLHOS, O QUAL É O ÓRGÃO DO SENTIDO QUE COMANDA DIRE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FÍGADO  ASSEGURA O FLUXO SUAVE DO QI MAS SÓ O ARMAZENA E DISTRIBU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7586640" y="189000"/>
            <a:ext cx="1557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CORAÇ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GOVERNAR O SANGUE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OS VASOS (XUE MAI) E MANIFESTAR-SE NA COMPLEIÇ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BRIGAR A MENTE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BRIR-SE NA LÍNGU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A SUDORE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SONO E SON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7294680" y="189000"/>
            <a:ext cx="16524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CORAÇ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GOVERNAR O SANGUE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 TRANSFORMAÇÃO DO ZHENG QI EM SANGUE  , OCORRE NO CO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CORAÇÃO É RESPONSÁVEL PELA CIRCULAÇÃO DO SANGUE   NO ORGANISMO.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7294680" y="189000"/>
            <a:ext cx="16524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só é feita caso você consiga aproveitamento acima de 70% na avaliação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CORAÇ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CONTROLA OS VASOS (XUE MAI) E MANIFESTA-SE NA COMPLEIÇÃ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VASOS SÃO A VIA POR ONDE O CORAÇÃO NUTRE O CORP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E O SANGUE   FOR ABUNDANTE E HOUVER UMA BOA CONDIÇÃO DESSE ZANG A PESSOA APRESENTARÁ UMA COMPLEIÇÃO ROSADA E LUST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7294680" y="189000"/>
            <a:ext cx="16524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CORAÇ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BRIGAR A MENTE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* SEGUNDO A MTC, O CORAÇÃO   É A RESIDÊNCIA DA MENTE  , QUE DEPENDE DO YIN E DO SANGUE   PARA ENRA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GREGA O SHEN - ATIVIDADE MENTAL (INCLUI EMOÇÕES), CONSCIÊNCIA,  MEMÓRIA, PENSAMENTO E   S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7294680" y="189000"/>
            <a:ext cx="16524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CORAÇ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BRIR-SE NA LÍ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A LÍNGUA É O ESPELHO DO CORAÇÃO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A MENTE   E OS VASOS (XUE MAI), TÊM SEU REFLEXO NA COR, FORMA E APARÊNCIA DA LÍNGUA, ESPECIALMENTE A PO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CONTROLA TAMBÉM O PALADAR E SUA CONDIÇÃO AFETA A F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7294680" y="189000"/>
            <a:ext cx="16524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CORAÇ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CONTROLAR A SUDO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FLUIDOS CORPÓREOS (JIN YE) SÃO A BASE DO SANG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GRANDE HEMORRAGIA NÃO CAUSA SUDORESE E GRANDE SUDORESE NÃO CAUSA HEMORRAGI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7294680" y="189000"/>
            <a:ext cx="16524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CORAÇ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ONO E SON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CORAÇÃO   ABRIGA A MENT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E O CORAÇÃO   ESTIVER DEBILITADO DE SANGUE  , A MENTE   PERDERÁ A ÂNCORA E DEIXARÁ SUA RESIDÊNCIA, CAUSANDO INSÔNIA E SONHOS AGI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7294680" y="189000"/>
            <a:ext cx="16524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BAÇ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6337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GOVERNAR TRANSFORMAÇÃO E O TRANSPOR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OS MÚSCULOS E OS QUATRO MEMBR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BRE-SE NA BOCA E MANIFESTA-SE NOS LÁBI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A ASCENDÊNCIA DO Q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BRIGAR O PEN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72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BAÇ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GOVERNAR TRANSFORMAÇÃO E O TRANSPOR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BAÇO  EXTRAI DOS ALIMENTOS QUE DESCENDEM DO ESTÔMAGO   O QUE CHAMAMOS DE “QI DOS ALIMENTOS” (GU QI), E O TRANSPORTA PARA O PULMÃO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S FLUIDOS CORPÓREOS (JIN YE) SÃO SEPARADOS EM PUROS E IMPUROS PELO BAÇO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72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BAÇ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OS MÚSCULOS E OS QUATRO MEMBR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ARTE IMPORTANTE DO FATOR NUTRICIONAL DA MUSCULATURA, PRINCIPALMENTE DE MEMBROS DEPENDE DO BAÇO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UM BAÇO   FORTE, ESSE QI SERÁ DIRECIONADO PARA OS MÚSCULOS E HAVERÁ VIGOR E TÔNUS MUSC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72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BAÇ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BRE-SE NA BOCA E MANIFESTA-SE NOS LÁBIOS</a:t>
            </a:r>
            <a:br>
              <a:rPr sz="2400"/>
            </a:br>
            <a:br>
              <a:rPr sz="2400"/>
            </a:b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MASTIGAÇÃO É O ESTÁGIO INICIAL DA TRANSFORMAÇÃO DO ALIMENTO BRUTO EM MATÉRIA PRIMA PARA QUE O BAÇO   EXTRAIA O QI DOS ALIMENTOS (GU Q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SSIM OS LÁBIOS, REFLETIRÃO A CONDIÇÃO EM QUE O BAÇO   SE ENCON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72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BAÇ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6337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CONTROLAR A ASCENDÊNCIA DO Q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BAÇO   PROMOVE UM EFEITO DE ELEVAÇÃO DO QI AO LONGO DA LINHA MÉDIA DO CORPO DEVIDO A SUA CARACTERÍSTICA ASCENDENTE MANTENDO OS SISTEMAS INTERNOS NO LOCAL COR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E O QI DO BAÇO É DEFICIENTE, A SUA FUNÇÃO DE ELEVAR O QI PODE DEBILITAR, PODENDO OCORRER O PROLAPSO DE VÁRIOS ÓRGÃ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ROMOVE A ASCENDÊNCIA DO QI REFINADO DOS ALIMENTOS (GU QI), PARA INICIAR A METABOLIZAÇÃO DO QI NO PULMÃO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72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858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ng Xia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eoria dos ZANG F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ões dos Zang F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800" y="3483000"/>
            <a:ext cx="640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378320" y="3987720"/>
            <a:ext cx="650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BAÇ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16000" y="1844640"/>
            <a:ext cx="63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BRIGAR O PEN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BAÇO É A RESIDÊNCIA DO PENSAMENTO REFLEXÃ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INFLUENCIA NOSSA CAPACIDADE DE RACIOCÍNIO, CONCENTRAÇÃO E MEMORIZAÇÃO DE ESTUDOS E TRABAL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(DIFERENTE DO CORAÇÃO QUE GOVERNA MEMÓRIAS PASSADAS E O RIM   QUE AFETA MEMÓRIAS RECEN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72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PULM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GOVERNAR O QI E A RESPIRAÇÃO E ABRE-SE NO NARIZ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CONTROLAR OS MERIDIANOS E OS VASOS SANGUÍNEOS (XUE MAI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CONTROLAR A DISPERSÃO E A DESCENDÊNCIA E MANIFESTA-SE NA PE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ABRIGAR A ALMA CORPÓREA (PO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GOVERNA A V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828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PULM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GOVERNAR O QI E A RESPIRAÇÃO E ABRE-SE NO NARIZ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PULMÃO EXTRAI O AR PURO, QUE SERVE DE BASE QUANDO METABOLIZADO COM O QI DOS ALIMENTOS (GU QI), PARA FORMAR O ZONG QI, QUE MOVE O SANGUE   E O QI NOS VASOS POR TODO O COR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LE TAMBÉM É O MEDIADOR ENTRE O ORGANISMO E O MEIO AMBIENTE E TEM O NARIZ COMO COND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828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PULM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OS MERIDIANOS E OS VASOS SANGUÍNEOS (XUE MAI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MBORA SEJA O CORAÇÃO   QUE COMANDE A CIRCULAÇÃO DE SANGUE   NOS VASOS, O PULMÃO   É O GOVERNADOR DO QI, POIS É O SEU QI QUE MOVE O SANGU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UXILIA PORTANTO O CORAÇÃO NA CIRCULAÇÃO DO SANGUE   E TAMBÉM MANTÉM A CIRCULAÇÃO DO QI NOS MERIDI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828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PULM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CONTROLAR A DISPERSÃO E A DESCENDÊNCIA E MANIFESTA-SE NA PE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PULMÃO   DISPERSA O QI DEFENSIVO (WEI QI) E PARTE DOS FLUIDOS CORPÓREOS (JIN) PARA O ESPAÇO ENTRE A PELE E OS MÚSCU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QI DO PULMÃO DEVE DESCENDER PARA O RIM OU PARA O INTESTINO GROSSO   PARA PROMOVER O PERISTALTIS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LÉM DISSO, PARTE DOS FLUIDOS CORPÓREOS (YE) TAMBÉM DESCENDEM DO PULMÃO PARA O RIM  QUE VAPORIZA PARTE DESSES FLUIDOS DE VOLTA AO PULM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828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PULM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ABRIGAR A ALMA CORPÓREA (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ALMA CORPÓREA (PO) É A PARTE MAIS FÍSICA E MATERIAL DA ALMA HUMANA E ESTÁ INTIMAMENTE RELACIONADA À ESSÊNCIA 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UMA BOA CONDIÇÃO DO PULMÃO  INDICA QUE AS SENSAÇÕES E OS MOVIMENTOS SERÃO CLAROS E DEFINI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TRISTEZA, O LAMENTO OU O LUTO COM PESAR, DEBILITAM DIRETAMENTE O PULMÃO  , DESABRIGANDO A ALMA CORPÓREA (PO), CAUSANDO CONFUSÃO E APAT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828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PULMÃ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GOVERNA A VOZ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FORÇA, TOM E PUREZA DA VOZ TEM LIGAÇÃO DIRETA COM O ESTADO DO QI DO PULMÃO E UMA PATOLOGIA QUE ALTERE SUA HARMONIA AFETARÁ DIRETAMENTE ESSE VIG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PULMÃO , É O SISTEMA YIN MAIS EXTERNO DE TODO O ORGANISMO E É FACILMENTE ATACADO POR FATORES PATOGÊNICOS EXTERNOS, OU SEJA, FATORES CLI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9828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ESTÔMAG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O AMADURECIMENTO E A DECOMPOSIÇÃO DOS ALIMENT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A DESCENDÊNCIA DO Q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É A ORIGEM DOS FLUIDOS CORPÓREOS (JIN Y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ASPECTO MENT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RELACIONA-SE COM O BAÇ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ESTÔMAG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O AMADURECIMENTO E A DECOMPOSIÇÃO DOS ALIMENT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ESTÔMAGO PREPARA OS ALIMENTOS PARA QUE O BAÇO POSSA SEPARAR E EXTRAIR O QI REFINADO (GU Q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VIDO A ESSA ATUAÇÃO CONJUNTA, O ESTÔMAGO  É DENOMINADO DE RAIZ DO QI PÓS-CELEST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ESTÔMAG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ONTROLAR A DESCENDÊNCIA DO Q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ESTÔMAGO, APÓS TRANSFORMAR OS ALIMENTOS, PROMOVE A DESCENDÊNCIA PARA O INTESTINO DELGADO  , QUE IRÁ REALIZAR A SEPARAÇÃO E ABSOR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QI DO FÍGADO   AJUDA A PROMOVER ESSE MO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ARMAZENAR A ESSÊNCIA   PRÉ-CELESTIAL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PRODUZIR A MEDULA, ABASTECER O CÉREBRO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E CONTROLAR OS OSSOS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GOVERNAR A ÁGUA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CONTROLAR A RECEPÇÃO DO QI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ABRE-SE NOS OUVIDOS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MANIFESTA-SE NO CABELO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CONTROLAR OS DOIS ORIFÍCIOS INFERIORES</a:t>
            </a:r>
            <a:br>
              <a:rPr sz="1600"/>
            </a:b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ABRIGAR A FORÇA DE VONT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CADA RIM POSSUI FUNÇÕES DIFERENTES NO ORGAN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991200" y="1197000"/>
            <a:ext cx="215280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ESTÔMAG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É A ORIGEM DOS FLUIDOS CORPÓREOS (JIN YE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ESTÔMAGO   CONDENSA PARTE DOS LÍQUIDOS DOS ALIMENTOS E DOS LÍQUIDOS INGERIDOS, PARA DAR ORIGEM AOS FLUIDOS CORPÓREOS (JIN YE), QUE SERÃO TRANSFORMADOS E TRANSPORTADOS PELO BAÇO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ESTÔMAGO   GOSTA DE UMIDADE E ODEIA A SEC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ESTÔMAG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SPECTO 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ESTÔMAGO SOFRE MAIS FACILMENTE COM PADRÕES DE EXCESSO E ASSIM COMO O BAÇO  , COMANDA O PENSAMENTO (REFLEX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EXCESSO DE ESTÔMAGO AFETA A MENTE QUE IRÁ GERAR CONFUSÃO MENTAL, ANSIEDADE SEVERA E HIPERATIV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M CASOS MAIS SEVEROS PODERÃO SURGIR INDÍCIOS DE COMPORTAMENTO MANÍACO OBSESSIV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ESTÔMAG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600" spc="-1" strike="noStrike" u="sng">
                <a:solidFill>
                  <a:srgbClr val="000000"/>
                </a:solidFill>
                <a:uFillTx/>
                <a:latin typeface="Arial"/>
              </a:rPr>
              <a:t>RELACIONA-SE COM O BAÇO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ESTÔMAGO É YANG, MAS POSSUI CARACTERÍSTICAS FUNCIONAIS YI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BAÇO É YIN, MAS POSSUI CARACTERÍSTICAS FUNCIONAIS YANG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7093080" y="0"/>
            <a:ext cx="18097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INTESTINO DELGAD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ONTROLAR A RECEPÇÃO E TRANS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RELACIONA-SE COM O CORAÇÃ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7308720" y="333360"/>
            <a:ext cx="154332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INTESTINO DELGAD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CONTROLAR A RECEPÇÃO E TRANS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O INTESTINO DELGADO OCORRE UMA NOVA SEPARAÇÃO DOS LÍQUIDOS ORGÂNICOS (JIN YE) EM PARTES PURAS E IMPURA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S PARTES IMPURAS DOS LÍQUIDOS SÃO DIRECIONA DAS PARA A BEXIGA  ONDE SÃO EXCRETADAS COMO URINA. POR ISSO O INTESTINO DELGADO   TEM RELAÇÃO DIRETA COM A MIC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INTESTINO DELGADO   AFETADO, PODE ALTERAR A MICÇÃO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FUNÇÃO TRANSFORMADORA DO INTESTINO DELGADO   É CONTROLADA PELA AÇÃO DO YANG DO RI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7308720" y="333360"/>
            <a:ext cx="154332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INTESTINO DELGAD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RELACIONA-SE COM O CORAÇÃ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 INTESTINO DELGADO   INFLUENCIA NOSSA CAPACIDADE DE DISTINGUIR QUAL O CAMINHO A SEGUIR (LUCIDEZ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7308720" y="333360"/>
            <a:ext cx="154332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INTESTINO GROSS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RECEBER ALIMENTOS E LÍQUIDOS DESCENDENTES DO INTESTINO DELGA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RELACIONA-SE COM O PULMÃ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53324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INTESTINO GROSS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0920" y="170028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RECEBER ALIMENTOS E LÍQUIDOS DESCENDENTES DO INTESTINO DELGADO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PRINCIPAL FUNÇÃO DO INTESTINO GROSSO   É RECEBER A PARTE IMPURA DOS ALIMENTOS E A PARTE PURA DOS LÍQUIDOS CORPÓREOS (JIN YE), DISSOCIADOS PELO INTESTINO DELG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ARTE DESSES LÍQUIDOS SÃO REABSORVIDOS E EM SEGUIDA AS FEZES SÃO EXCRE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53324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INTESTINO GROSS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RELACIONA-SE COM O PULMÃ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PULMÃO   DESCENDE O QI PARA QUE O INTESTINO GROSSO   POSSA EXECUTAR OS MOVIMENTOS DEFECATÓ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POR OUTRO LADO UMA FALHA NO PERISTALTISMO DO INTESTINO GROSSO, PODE GERAR CONSTIPAÇÃO (ESTAGNAÇÃO), O QUE PODE DIFICULTAR A FUNÇÃO DESCENDENTE DO QI DO PULMÃO  , GERANDO DISPNÉ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53324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A VESÍCULA BILIA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ESTOCAR A 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ONTROLAR O JULG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ONTROLAR OS TEND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RELACIONA-SE COM O FÍGAD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SPECTO PSIC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714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ARMAZENAR A ESSÊNCIA   PRÉ-CELESTIAL</a:t>
            </a:r>
            <a:br>
              <a:rPr sz="2000"/>
            </a:br>
            <a:br>
              <a:rPr sz="2000"/>
            </a:b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HERDADA DOS PAIS E É ARMAZENADA NO RIM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NTES DO NASCIMENTO ALIMENTA O FETO E APÓS O NASCIMENTO, CONTROLA O CRESCIMENTO, MATURAÇÃO SEXUAL, FERTILIDADE E DESENVOLVI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CONTROLA OS ESTÁGIOS DE MUDANÇA DE VIDA, OU SEJA, NASCIMENTO, PUBERDADE , MENOPA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A VESÍCULA BILIA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STOCAR A 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VESÍCULA BILIAR   RECEBE A BILE DO FÍGADO   E A MANTÉM PRONTA PARA EXCRETAR DURANTE A DIGEST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VESÍCULA BILIAR  É O ÚNICO SISTEMA YANG QUE ARMAZENA UM FLUIDO “PURO” (A BILE) , SENDO POR ISSO CONSIDERADA UM SISTEMA YANG EXTRAORDIN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714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A VESÍCULA BILIA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ONTROLAR O JULG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E DEFINE A CORAGEM PARA A TOMADA DE DECISÕ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714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A VESÍCULA BILIA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CONTROLAR OS TEND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ENQUANTO O FÍGADO   NUTRE OS TENDÕES COM SANGUE A VESÍCULA BILIAR  PORPORCIONA O QI NECESSÁRIO PARA QUE ELES SE MOVIMENTEM E TENHAM AGI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714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A VESÍCULA BILIA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RELACIONA-SE COM O FÍGADO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 VESÍCULA BILIAR  ARMAZENA A BILE QUE DEPENDE DO FLUXO SUAVE DO QI DO FÍGADO PARA SER EXCRETADA NO AUXÍLIO À DIGEST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714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A VESÍCULA BILIA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SPECTO PSIC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 FÍGADO   INFLUENCIA O PLANEJAMENTO DE NOSSAS VIDAS, MAS A TOMADA DE DECISÃO DEPENDE SOMENTE DA VESÍCULA BILIAR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714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A BEXIGA (PANGGUA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REMOVER A ÁGUA POR MEIO DA TRANSFORMAÇÃO DOS FL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SPECTO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RELACIONA-SE COM O RI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48572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A BEX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 u="sng">
                <a:solidFill>
                  <a:srgbClr val="000000"/>
                </a:solidFill>
                <a:uFillTx/>
                <a:latin typeface="Arial"/>
              </a:rPr>
              <a:t>REMOVER A ÁGUA POR MEIO DA TRANSFORMAÇÃO DOS FLUID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BEXIGA  RECEBE A PARTE IMPURA DOS LÍQUIDOS CORPÓREOS (JIN YE), SEPARADA PELO INTESTINO DELGADO E PELO RI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LA TRANSFORMA ESSAS PARTES IMPURAS NOVAMENTE EM PURA E IMPURA (URIN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PARTE PURA ASCENDE PARA WEI QI EM FORMA DE VAPOR PARA SER ELIMINADA COMO SUOR E TAMBÉM DÁ O CHEIRO OU ODOR CARACTERÍSTICO CITADO NOS 5 ELEM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PARTE IMPURA (URINA) É EXCRET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48572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A BEX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SPECTO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 BEXIGA  ESTÁ LIGADA ÀS EMOÇÕES NEGATIVAS COMO CIÚME, DESCONFIANÇA E RANC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48572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1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A BEX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10920" y="191592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RELACIONA-SE COM O RIM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 BEXIGA  DEPENDE DO QI E DO CALOR DO YANG DO RIM   PARA TRANSFORMAR, ARMAZENAR E EXCRETAR OS LÍQUIDOS CORPÓREOS (JIN Y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48572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TRIPLO AQUECED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O TRIPLO AQUECEDOR   COMO 1 DOS 6 SISTEMAS YA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O TRIPLO AQUECEDOR   COMO UMA VIA PARA O QI ORIGINAL (YUAN QI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O TRIPLO AQUECEDOR   COMO AS 3 DIVISÕES DO ORGANISMO :</a:t>
            </a:r>
            <a:br>
              <a:rPr sz="2000"/>
            </a:br>
            <a:br>
              <a:rPr sz="2000"/>
            </a:b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- DO DIAFRAGMA PARA C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- ENTRE O DIAFRAGMA E O UMBIGO </a:t>
            </a:r>
            <a:br>
              <a:rPr sz="2000"/>
            </a:b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- DO UMBIGO PARA BAIX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RELACIONA-SE COM O PERICÁRD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7553160" y="0"/>
            <a:ext cx="1590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42920" y="1699920"/>
            <a:ext cx="712944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PRODUZIR A MEDULA, ABASTECER O CÉREBRO E CONTROLAR OS OS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MEDULA, QUE É PRODUZIDA A PARTIR DA ESSÊNCIA  , NÃO É A MEDULA ÓSSEA DA MEDICINA OCIDENTAL. MEDULA, SEGUNDO A MTC, É UMA SUBSTÂNCIA QUE SERVE DE MATRIZ COMUM PARA OSSOS, MEDULA ÓSSEA, CÉREBRO E MEDULA ESPINH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VIGOR MENTAL TEM LIGAÇÃO DIRETA COM O ESTADO DO RIM  , ASSIM COMO COM A MEMÓRIA PARA FATOS RE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MEDULA É A BASE PARA A FORMAÇÃO DA MEDULA ÓSSEA QUE NUTRE OS OSSOS, SENDO ESTES DEPENDENTES DO CONTROLE DE RIM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TRIPLO AQUECED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O TRIPLO AQUECEDOR   COMO 1 DOS 6 SISTEMAS YA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ELE É UMA VIA DE PASSAGEM DA ASCENDÊNCIA E/OU DESCENDÊNCIA DO QI EM SUA MAIS DIVERSAS MANIFESTAÇÕES, DE UM SISTEMA PARA O OUTRO, OU SEJA, POSSUI A FUNÇÃO DE ESCOAMENTO DE SUBSTÂNC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7553160" y="0"/>
            <a:ext cx="1590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TRIPLO AQUECED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 TRIPLO AQUECEDOR   COMO UMA VIA PARA O QI ORIGINAL (YUAN QI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QI ORIGINAL RESIDE NO BAIXO ABDOME, ENTRE OS 2 RINS, E DISPERSA-SE PARA OS 5 SISTEMAS YIN (6 COM O PERICÁRDIO) E 6 SISTEMAS YANG, ATRAVÉS DO TRIPLO AQUECEDOR, DEPOIS PENETRA OS 12 MERIDIANOS PRINCIPAIS E EMERGE NOS PONTOS FO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7553160" y="0"/>
            <a:ext cx="1590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TRIPLO AQUECED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RELACIONA-SE COM O PERICÁRD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FOGO  MINISTERIAL (FOGO QUE NASCE NO RIM DIREITO E QUE É FONTE DE CALOR PARA TODOS OS SISTEMAS) ASCENDE PELO PORTÃO DA VITALIDADE ATRAVÉS DO TRIPLO AQUECEDOR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PERICÁRDIO   ESTÁ INTIMAMENTE CONECTADO AO CORAÇÃO QUE PERTENCE NATURALMENTE AO ELEMENTO FO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7553160" y="0"/>
            <a:ext cx="1590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PERICÀRDIO 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O PERICÁRDIO   E O CORAÇÃO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O PERICÁRDIO   E AS FUNÇÕES DO CORAÇÃO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O PERICÁRDIO   E O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3"/>
          <a:stretch/>
        </p:blipFill>
        <p:spPr>
          <a:xfrm>
            <a:off x="6972480" y="0"/>
            <a:ext cx="2171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PERICÀRDIO 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6337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O PERICÁRDIO E O CORAÇÃ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 PERICÁRDIO É CONSIDERADO COMO UMA COBERTURA EXTERNA PARA O CORAÇÃO, PROTEGENDO-O CONTRA FATORES PATOGÊNICOS EXTER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3"/>
          <a:stretch/>
        </p:blipFill>
        <p:spPr>
          <a:xfrm>
            <a:off x="6972480" y="0"/>
            <a:ext cx="2171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PERICÀRDIO 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10920" y="227664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O PERICÁRDIO E AS FUNÇÕES DO CORAÇÃO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PERICÁRDIO   POSSUI MUITAS FUNÇÕES IGUAIS AS DO CORAÇÃO  , TAIS COMO GOVERNAR O SANGUE E ABRIGAR A MENTE  . </a:t>
            </a:r>
            <a:br>
              <a:rPr sz="2000"/>
            </a:b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ERIDIANO POSSUI PONTOS EXTREMAMENTE INFLUENTES SOBRE O ESTADO MENTAL E EMO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EUS PONTOS SÃO FREQUENTEMENTE USADOS PARA DIFICULDADES DE RELACIONAMENTO COM OUTRAS PESSO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3"/>
          <a:stretch/>
        </p:blipFill>
        <p:spPr>
          <a:xfrm>
            <a:off x="6972480" y="0"/>
            <a:ext cx="2171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FUNÇÕES DO PERICÀRDIO 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68000" y="1773360"/>
            <a:ext cx="6337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O PERICÁRDIO E O TÓ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PONTOS DESSE MERIDIANO TEM FORTE INFLUÊNCIA SOBRE O CENTRO DO TÓRAX, SENDO LARGAMENTE UTILIZADOS PARA ESTAGNAÇÕES NESTA REGI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6972480" y="0"/>
            <a:ext cx="2171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GOVERNAR A ÁGUA (Jin Y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CONTROLANDO O  ESFINCTER URI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RIM   RECEBE PARTE DOS FLUIDOS CORPÓREOS (YE) DO PULMÃO   E AS PARTES PURAS ASCENDEM VAPORIZADAS, RETORNAM PARA O PULMÃO   PARA MANTÊ-LO UMEDE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 YANG DO RIM  , PROPORCIONA O CALOR NECESSÁRIO PARA O INTESTINO DELGADO   CUMPRIR A SUA FUNÇÃO DE TRANSFORMAÇÃO E TRANSPORTE DOS FLUIDOS CORPÓREOS (JIN Y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CONTROLAR A RECEPÇÃO DO QI</a:t>
            </a:r>
            <a:br>
              <a:rPr sz="3200"/>
            </a:b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PT" sz="3200" spc="-1" strike="noStrike">
                <a:solidFill>
                  <a:srgbClr val="000000"/>
                </a:solidFill>
                <a:latin typeface="Arial"/>
              </a:rPr>
              <a:t>A RESPIRAÇÃO ACONTECE DEVIDO A MÚTUA COLABORAÇÃO ENTRE RIM   E PULMÃO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650880" cy="812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FUNÇÕES DO RI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12944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BRE-SE NOS OUVID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S OUVIDOS DEPENDEM DA NUTRIÇÃO DA ESSÊNCIA   PARA O SEU FUNCIONAMENTO ADEQUA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 RAMO INTERNO DO MERIDIANO DO RIM   CONECTA-SE COM OS OUV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5:24:54Z</dcterms:created>
  <dc:creator>Pessoal</dc:creator>
  <dc:description/>
  <dc:language>en-US</dc:language>
  <cp:lastModifiedBy>微软用户</cp:lastModifiedBy>
  <dcterms:modified xsi:type="dcterms:W3CDTF">2020-10-04T13:58:57Z</dcterms:modified>
  <cp:revision>64</cp:revision>
  <dc:subject/>
  <dc:title>ZANG FU</dc:title>
</cp:coreProperties>
</file>